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D4D-40B0-4DF6-BBEA-9637B836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893-7418-4C0F-A05E-5AAE207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D18-E6F7-44CD-B70B-6B08E97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C4D-51B8-4A8E-9252-ACAB61F9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292-D294-49CD-9BCB-CBCFC5B9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77E-7F45-46DA-8724-8A84EB5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72D-121D-4565-B959-1ECC30F9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164-4A17-4844-A593-4946D0E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BDB-4BAF-4C35-AE68-FAD9899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D80-B823-43C1-926F-983D8B6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681-7D83-42AF-B06A-C7D88522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1FD-9FBA-4E2F-BA6A-637768B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1B9-E8AB-4FEB-8C8D-2D5E7210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’s fight for po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as a new nation created by the effect of the Prussian defeat of France. (18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is period Germany believed it deserved its glory , its “time in the sun”, as an imperial military power possessing colonies around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s contributions to world war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attempt to re-make the map of Europe and encouragement of the Austro-Hungarian Empire to deny Russia ultimatum actually set the war in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lso contribu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to use major railroads as a principal strategic factor allowing rapid movement of masses of troops to battl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ment of advanced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the first modern machine g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the soviet uni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world war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ere forced to pay for a large  deal of war reparations, which ultimately led to the start of world war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52:12Z</dcterms:created>
  <dc:creator>Miki</dc:creator>
  <dc:description/>
  <dc:language>en-US</dc:language>
  <cp:lastModifiedBy>Miki</cp:lastModifiedBy>
  <dcterms:modified xsi:type="dcterms:W3CDTF">2009-02-18T20:55:13Z</dcterms:modified>
  <cp:revision>2</cp:revision>
  <dc:subject/>
  <dc:title>Germany</dc:title>
</cp:coreProperties>
</file>